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a Varrassi, LCSW...pvarrassi@gmai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B307-41BE-4299-B424-3B05DF46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a Varrassi, LCSW...pvarrassi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7FBD-EDA0-4164-9477-A05EAB011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a Varrassi, LCSW...pvarrassi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42B7-2928-4376-A6F0-558C9450A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a Varrassi, LCSW...pvarrassi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9AB6-5F3D-4EF8-83EC-9E7BA685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E8E-93F9-4FD2-9FDE-AE7FAE6D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E65-253E-4DD8-89E8-84059700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73E-928A-4B45-8DC9-EDFEBD1E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315-3C13-435F-836B-F020BFB0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F9B0-3056-4D14-9D35-14EF5357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A2AC-8587-4B30-9F84-F82A7C4A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AB4D-E057-4632-AA4F-51BC899A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2D17-0874-4739-8ED3-004B7241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F522-DE2F-40CE-89E8-DA0C55A4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8B34-A179-4EC1-924A-6E950C57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9706-9E94-4596-9B8D-330B0CB7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6A9-9287-4116-92E0-2D4A2578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5A13-8B23-438D-BE7D-0FF2A599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C327-C44A-4215-BFFD-FABE0049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7F03-71C7-4176-9766-8366097D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04B4-BFA4-4444-B58F-56FFFFC0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9878-B528-42B9-A958-72C31515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8BF-F14D-47AD-868F-5F529CD8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E33-0E4A-47A0-967E-8C1F258E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9F2-9068-48AC-8E98-0F267A97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4BF-DB7E-44B0-A2F0-E4945E1A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BE8-38E9-4EE3-98A3-EC3CB686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5B2-DA49-49E2-B4D9-A970024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714-5F15-4B65-831B-2EB2704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3B5E-9C9E-41AA-944B-A9CAFE74D92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4D6C-1D87-4BE0-92E6-7708C6E899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uccessful Interviewing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5" name="Picture 7" descr="MCj02899410000[1]"/>
          <p:cNvPicPr/>
          <p:nvPr/>
        </p:nvPicPr>
        <p:blipFill>
          <a:blip r:embed="rId1"/>
          <a:stretch/>
        </p:blipFill>
        <p:spPr>
          <a:xfrm>
            <a:off x="380880" y="2438280"/>
            <a:ext cx="2982960" cy="2417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feren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a list of potential professional, academic and personal re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 the ones you think are most likely to have positive things to say about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them you are interviewing for jobs and ask if they are willing to provide a positive reference for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NOW YOUR WEAKNESSES &amp; CHALLENGES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5" descr="MCj02953600000[1]"/>
          <p:cNvPicPr/>
          <p:nvPr/>
        </p:nvPicPr>
        <p:blipFill>
          <a:blip r:embed="rId1"/>
          <a:stretch/>
        </p:blipFill>
        <p:spPr>
          <a:xfrm>
            <a:off x="3124080" y="3505320"/>
            <a:ext cx="2435400" cy="2216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aknesses &amp; Challen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l have weaknesses and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viewer expects you to identify yours but does not have to be told something that would create a negative opinion of you as a cand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the time to discuss your concerns about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your weakness into a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xamples of How A Weakness Can Be A Streng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ike to work on a project or assignment until it’s completed, so I generally don’t socialize very much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’m something of a perfectionist.  I expect a lot of mysel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ike a clean desk, so I try to complete as much as possible every day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have trouble saying no because I really like to be helpful and busy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 PREPARED FOR 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5" descr="MCj03605160000[1]"/>
          <p:cNvPicPr/>
          <p:nvPr/>
        </p:nvPicPr>
        <p:blipFill>
          <a:blip r:embed="rId1"/>
          <a:stretch/>
        </p:blipFill>
        <p:spPr>
          <a:xfrm>
            <a:off x="3124080" y="365760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 Interviewer’s Go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5640" y="1676520"/>
            <a:ext cx="6629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ant to fill the position with a good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fin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th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personal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mo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11"/>
          <p:cNvGraphicFramePr/>
          <p:nvPr/>
        </p:nvGraphicFramePr>
        <p:xfrm>
          <a:off x="458640" y="160020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60020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ll Me About Yourself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2388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60 second com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you grew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major area of studies and why you chos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or 3 strengths or skills that are related to this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or vocational accomplis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ability and desire to make contributions to the success of your emplo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areer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 in a conversational 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R OUTLINE FOR ANSW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Joker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Jokerman"/>
              </a:rPr>
              <a:t>I worked at……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sk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Jokerman"/>
              </a:rPr>
              <a:t>Where I 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Jokerman"/>
              </a:rPr>
              <a:t>I did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Jokerman"/>
              </a:rPr>
              <a:t>I achieved…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MCj03118380000[1]"/>
          <p:cNvPicPr/>
          <p:nvPr/>
        </p:nvPicPr>
        <p:blipFill>
          <a:blip r:embed="rId1"/>
          <a:stretch/>
        </p:blipFill>
        <p:spPr>
          <a:xfrm>
            <a:off x="5791320" y="2209680"/>
            <a:ext cx="1784160" cy="2971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otes for possible answers and descriptio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172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OK to have notes with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questions that you can expect and can write down points to reme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handout of frequently asked interview ques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ould you describe something you have done that relates to this type of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may refer to your notes during the int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view Success Tip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and refocus attention on your succe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ways offer positive infor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only the facts needed to answer the ques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ay mention hobbies/interests but keep it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en carefu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are not sure you understand the question, ask for clarific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l the truth but do not offer information not asked f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orkshop Top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your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 about the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 your strengths &amp;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 your weaknesses &amp; challe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pared for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pare questions to a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earance and Impre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o bring with you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o do at the end of the intervie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view Success Tip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your points.  Then ask if the interviewer would like further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organized in you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concise in your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use at times to consider your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DeLuca &amp; N. DeLuca, 24 Hours to the Perfect Interview (2004), McGraw 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llegal Top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04840" y="1599840"/>
            <a:ext cx="69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viewers May Not Ask Ab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ity/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ital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fili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ability or medical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gnancy, birth control, child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O DISCLOSE OR NOT TO DISCLO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loyers CAN NOT ask you if you have a dis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are not required to disclose a disability during an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would y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Baker, Jed. Ph.D. (2005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aring for Life: the Complete Guide to Transitioning to Adulthood for those with Autism and Asperger’s Syndrome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lington, TX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Horizons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ORS TO CONSI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your disability readily appar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eye contact, idiosyncratic movement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you explain how it will not interfere with performing the job duti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you point out how aspects of your disability make you a desirable candidate for the positio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.e. RULES = HONES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handout on disclos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r disability is not readily appa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need to discl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ommodations may be simple and can be requested without disclo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en Shore and baseball 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EPARE YOUR OWN QUESTIONS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Picture 5" descr="MCj04347840000[1]"/>
          <p:cNvPicPr/>
          <p:nvPr/>
        </p:nvPicPr>
        <p:blipFill>
          <a:blip r:embed="rId1"/>
          <a:stretch/>
        </p:blipFill>
        <p:spPr>
          <a:xfrm>
            <a:off x="3733920" y="327672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rite Out Questions for the Interview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r questions show your interest in the position and the compa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 you consider the most important qualities for someone to have in this job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is this position available n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 you like about working 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opportunities for advancem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do you plan on filling this posi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ACTICE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Picture 5" descr="MCj01981170000[1]"/>
          <p:cNvPicPr/>
          <p:nvPr/>
        </p:nvPicPr>
        <p:blipFill>
          <a:blip r:embed="rId1"/>
          <a:stretch/>
        </p:blipFill>
        <p:spPr>
          <a:xfrm>
            <a:off x="3429000" y="3200400"/>
            <a:ext cx="2374920" cy="2590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ACTI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friends, parents, teachers to spend 30 minutes doing th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the Practice Interview into 3 Pa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s &amp; Answ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 you need to do bet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Practice Interview Rating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ke a Practice Trip to the Interview Loc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 out the rou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vel at the same time of day as your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 extra time for traffic or del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e the business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are people dre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EARANCE &amp; IMPRES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4" name="Picture 5" descr="MCj01984790000[1]"/>
          <p:cNvPicPr/>
          <p:nvPr/>
        </p:nvPicPr>
        <p:blipFill>
          <a:blip r:embed="rId1"/>
          <a:stretch/>
        </p:blipFill>
        <p:spPr>
          <a:xfrm>
            <a:off x="3429000" y="3505320"/>
            <a:ext cx="2413080" cy="2120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NTIFY YOUR GOALS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Picture 7" descr="j0295930"/>
          <p:cNvPicPr/>
          <p:nvPr/>
        </p:nvPicPr>
        <p:blipFill>
          <a:blip r:embed="rId1"/>
          <a:stretch/>
        </p:blipFill>
        <p:spPr>
          <a:xfrm>
            <a:off x="3505320" y="3352680"/>
            <a:ext cx="1844640" cy="1533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earance Matters. . .A Lot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don’t dress seriously, they can’t take you seriously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a good first i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de in yourself implies pride in your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your creativity in your work, not your appea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 conservativ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well groomed and cl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on’t Forget the Detai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rvatively styled h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n and neatly trimmed be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n fingerna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rge or distracting access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n &amp; well-pressed clot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perfume or colo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smoking or gum che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ush your teeth and use mouthw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23"/>
          <p:cNvGraphicFramePr/>
          <p:nvPr/>
        </p:nvGraphicFramePr>
        <p:xfrm>
          <a:off x="4649760" y="160020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160020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24" descr="MCj02315780000[1]"/>
          <p:cNvPicPr/>
          <p:nvPr/>
        </p:nvPicPr>
        <p:blipFill>
          <a:blip r:embed="rId3"/>
          <a:stretch/>
        </p:blipFill>
        <p:spPr>
          <a:xfrm>
            <a:off x="5105520" y="1981080"/>
            <a:ext cx="2576520" cy="2735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ps for Wome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6018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Out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rk colored skirt or pants suit with a blouse or swe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t should be comfortable….not tight or very l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leavag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hing trans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rt still at knees when si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ar polished, low heeled sho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, neat access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ht be a good time to remove nose and tongue 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ar clean, matching panty hose or s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MCj03961920000[1]"/>
          <p:cNvPicPr/>
          <p:nvPr/>
        </p:nvPicPr>
        <p:blipFill>
          <a:blip r:embed="rId1"/>
          <a:stretch/>
        </p:blipFill>
        <p:spPr>
          <a:xfrm>
            <a:off x="6553080" y="2057400"/>
            <a:ext cx="1828800" cy="3352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ps for M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943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Out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s on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k colored business suit with solid shi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 with a neat k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rt, tie and sl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jacket buttoned when sta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es shined and in good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ks same color as shoes or p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s should be long enough to cover legs when si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MCj04114660000[1]"/>
          <p:cNvPicPr/>
          <p:nvPr/>
        </p:nvPicPr>
        <p:blipFill>
          <a:blip r:embed="rId1"/>
          <a:stretch/>
        </p:blipFill>
        <p:spPr>
          <a:xfrm>
            <a:off x="6553080" y="1981080"/>
            <a:ext cx="2133720" cy="3200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king A Good Impres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m handsha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 up when the interviewer comes to greet you and any time you are introduced to some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eat the interviewer’s name, with their proper form of address:  Mr., Mrs., D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on time for the interview (5-10 minutes ear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polite and respectful to the reception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res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999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sit until you’re invited to, and sit up stra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ctice good eye 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 at one eye, shoulder or foreh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k next to or behind interviewer and at same 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y something nice about the office, brief small tal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d your head in agreement o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y please and thank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res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may be invited to lunch or offered coff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ctice your table man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napk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talk with your mouth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’re not confident in ability to interview and drink coffee at same time say no thank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HAT TO BRING WITH YOU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5" name="Picture 5" descr="MCj02317320000[1]"/>
          <p:cNvPicPr/>
          <p:nvPr/>
        </p:nvPicPr>
        <p:blipFill>
          <a:blip r:embed="rId1"/>
          <a:stretch/>
        </p:blipFill>
        <p:spPr>
          <a:xfrm>
            <a:off x="3200400" y="2438280"/>
            <a:ext cx="2362320" cy="2819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to Bring to an Inter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al copies of your resu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of your work if appropr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tebook (with your notes in it) and a nice 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case or fol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s, addresses, and phone numbers of 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oto I.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ther things to bring with yo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tal Fl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uth Freshe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a few minutes to go to the bathroom and check out your appearance when you arr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ntify Your Goa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mber you want this j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e yourself working at this j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 you like to d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 you want to lea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your vision of your care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mber you want this j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HAT TO DO AT THE END OF THE INTERVIEW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1" name="Picture 5" descr="MCBD10512_0000[1]"/>
          <p:cNvPicPr/>
          <p:nvPr/>
        </p:nvPicPr>
        <p:blipFill>
          <a:blip r:embed="rId1"/>
          <a:stretch/>
        </p:blipFill>
        <p:spPr>
          <a:xfrm>
            <a:off x="3276720" y="3352680"/>
            <a:ext cx="2211120" cy="2133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t the End of the Inter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for the interviewer’s business c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interviewer’s name as you thank him/her for taking the time to meet with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tion some topics from the interview that you appreciated learning ab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 your interest in the job and belief in your ability to perform w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fter the Inter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776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 a short thank you note within 24 h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atly typed, spell che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 a few key points from the int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ly state your interest in the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may phone to check on the decision making process after 10 days – 2 wee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2" descr="MCj04242340000[1]"/>
          <p:cNvPicPr/>
          <p:nvPr/>
        </p:nvPicPr>
        <p:blipFill>
          <a:blip r:embed="rId1"/>
          <a:stretch/>
        </p:blipFill>
        <p:spPr>
          <a:xfrm>
            <a:off x="762120" y="2362320"/>
            <a:ext cx="2133360" cy="2292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hecke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DID YOU DO?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Picture 5" descr="MCj00788270000[1]"/>
          <p:cNvPicPr/>
          <p:nvPr/>
        </p:nvPicPr>
        <p:blipFill>
          <a:blip r:embed="rId1"/>
          <a:stretch/>
        </p:blipFill>
        <p:spPr>
          <a:xfrm>
            <a:off x="3733920" y="2895480"/>
            <a:ext cx="2209680" cy="2882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 Your Rating Shee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99920" y="1523520"/>
            <a:ext cx="6972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id you do overa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ere your strength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needs improvem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l and ask the interviewer for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ARN ABOUT THE COMPANY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Picture 5" descr="MCj02990630000[1]"/>
          <p:cNvPicPr/>
          <p:nvPr/>
        </p:nvPicPr>
        <p:blipFill>
          <a:blip r:embed="rId1"/>
          <a:stretch/>
        </p:blipFill>
        <p:spPr>
          <a:xfrm>
            <a:off x="3352680" y="3276720"/>
            <a:ext cx="2125800" cy="2590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arn About the Compan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ny Web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 or other search eng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it if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 to people who work there or have worked t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b description or po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how your skills match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some notes about the company for discussion during your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Useful Information About the Compan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long have they been a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they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they face 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are they d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ir repu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site or 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n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ir current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NOW YOUR STRENGTHS &amp; SKILLS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6" descr="MCPE06524_0000[1]"/>
          <p:cNvPicPr/>
          <p:nvPr/>
        </p:nvPicPr>
        <p:blipFill>
          <a:blip r:embed="rId1"/>
          <a:stretch/>
        </p:blipFill>
        <p:spPr>
          <a:xfrm>
            <a:off x="3276720" y="3429000"/>
            <a:ext cx="2423880" cy="1855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engths and Skil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must relate to this j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have these helped you accomplish things in your lif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id you do to achieve or develop the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has guided y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02:39:43Z</dcterms:created>
  <dc:creator/>
  <dc:description/>
  <dc:language>en-US</dc:language>
  <cp:lastModifiedBy>user</cp:lastModifiedBy>
  <dcterms:modified xsi:type="dcterms:W3CDTF">2010-01-02T16:25:28Z</dcterms:modified>
  <cp:revision>0</cp:revision>
  <dc:subject/>
  <dc:title>Successful Interview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PCBAUDREPEAT_">
    <vt:lpwstr>255</vt:lpwstr>
  </property>
  <property fmtid="{D5CDD505-2E9C-101B-9397-08002B2CF9AE}" pid="3" name="_TPCBAUDVOL_">
    <vt:lpwstr>50</vt:lpwstr>
  </property>
  <property fmtid="{D5CDD505-2E9C-101B-9397-08002B2CF9AE}" pid="4" name="_TPCBAUD_">
    <vt:lpwstr>0</vt:lpwstr>
  </property>
  <property fmtid="{D5CDD505-2E9C-101B-9397-08002B2CF9AE}" pid="5" name="_TPCEOPIDX_">
    <vt:lpwstr>-1</vt:lpwstr>
  </property>
  <property fmtid="{D5CDD505-2E9C-101B-9397-08002B2CF9AE}" pid="6" name="_TPCNAME_">
    <vt:lpwstr>4thesuccessfuljobinterview</vt:lpwstr>
  </property>
  <property fmtid="{D5CDD505-2E9C-101B-9397-08002B2CF9AE}" pid="7" name="_TPCNOAUDIO_">
    <vt:lpwstr>1</vt:lpwstr>
  </property>
  <property fmtid="{D5CDD505-2E9C-101B-9397-08002B2CF9AE}" pid="8" name="_TPCREQSCORE_">
    <vt:lpwstr>75</vt:lpwstr>
  </property>
  <property fmtid="{D5CDD505-2E9C-101B-9397-08002B2CF9AE}" pid="9" name="_TPCSCORED_">
    <vt:lpwstr>1</vt:lpwstr>
  </property>
  <property fmtid="{D5CDD505-2E9C-101B-9397-08002B2CF9AE}" pid="10" name="_TPCSTIMING_">
    <vt:lpwstr>5.000000</vt:lpwstr>
  </property>
</Properties>
</file>